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4E11-4D61-4CBA-BD5B-C9CC3B23E5E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E19B-70F1-4178-8B71-5667CB71C8C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χετική στέρηση (relative deprivation) προκύπτει όταν οι άνθρωποι πιστεύουν ότι εισπράττουν λιγότερα από αυτά που δικαιούνται. Αυτή η αίσθηση του τι δικαιούνται, μπορεί να βασίζεται σε σύγκριση με παλαιότερες εποχές, με κάποιο αφηρημένο πρότυπο δικαιοσύνης ή με τις επιβραβεύσεις που λαμβάνουν άλλες ομάδ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D34E-D2A5-41B3-AB20-C5AE4C7D9A1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ελατειασμός (clientelism) είναι ο όρος που χρησιμοποιείται για να περιγράψει την πολιτική η οποία εδράζεται κυρίως στις πελατειακές σχέσεις. Ο πάτρωνας παρέχει προστασία σε έναν αριθμό πελατών χαμηλότερης κοινωνικής θέσης, οι οποίοι ως αντάλλαγμα του παρέχουν άνευ όρων αφοσίωση και υποστήριξη.</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μαζικά οργανωμένη συμμετοχή (regimented participation) νοείται η ελεγχόμενη από την ελίτ πολιτική συμμετοχή, η οποία έχει σχεδιαστεί με σκοπό να εκφράσει τη λαϊκή υποστήριξη στο ιδεατό εγχείρημα των ηγετών να χτίσουν μια νέα κοινωνία. Υποτιθέμενος στόχος της είναι να κινητοποιήσει τις μάζες για τη στήριξη του καθεστώτος, και όχι να διαμορφώσει τη σύνθεση ή τις πολιτικές της κυβέρνησης.</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6AB5-E999-4BDB-9AE6-24E424D81B7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φύση της ανελεύθερης δημοκρατίας είναι να εκχωρείται η πολιτική εξουσία σε έναν πρόεδρο, στον οποίο επενδύεται η προσδοκία ότι θα επιλύσει τα οξύτατα προβλήματα της χώρας δεσπόζοντας στην πολιτική σφαίρ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φού ασκήσουν το εκλογικό τους δικαίωμα, οι άνθρωποι επιστρέφουν στην καθημερινότητα. Η συμμετοχή είναι σποραδική και ανοργάνωτη, ενώ βασίζεται στην πολιτική ανισότητα: ο ηγέτης ηγείται και οι μάζες ακολουθού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όβλημα στις ανελεύθερες δημοκρατίες έγκειται στην αδυναμία της κοινωνίας των πολιτών, η οποία υπάγεται στο νόμο αλλά παραμένει διακριτή από το κράτος. Η κοινωνία των πολιτών δίνει στους ανθρώπους την ευκαιρία να συμμετέχουν σε συλλογικές δράσεις που δεν είναι απαραίτητα υπέρ ή κατά του κράτους, αλλά απλούστατα δεν το αφορούν καθόλου.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EBBD-A3BD-4A31-8882-AF6575A8965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ν κοινωνία των πολιτών (civil society) συγκροτούν οι ομάδες που βρίσκονται υπεράνω της προσωπικής οικογενειακής σφαίρας, είναι, όμως, υποδεέστερες από το κράτος. Ο όρος καλύπτει τους δημόσιους φορείς, όπως τα συνδικάτα, τις ομάδες συμφερόντων και, κατά μία έννοια, τις ομάδες ανθρώπων με κοινά ενδιαφέροντα. Οι επιχειρήσεις δεν εντάσσονται συνήθως στην κοινωνία των πολιτών, διότι δεν αποτελούν εθελοντικούς οργανισμούς που αναδεικνύονται μέσα από την κοινων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BFD9-42EA-4302-8CC0-D8BD1C3DA01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ολιτική συμμετοχή (political participation) είναι η δραστηριότητα των ατόμων που έχει ως δεδηλωμένο σκοπό της να καθορίσει ποια πρόσωπα κυβερνούν και ποιες αποφάσεις λαμβάνουν αυτοί που έχουν την εξουσί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1D8F-E56D-4FE4-A66A-F13DB00E062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υμβατική συμμετοχή (conventional participation) συναντάται στην τυπική πολιτική δραστηριότητα, ενώ η μη συμβατική συμμετοχή (unconventional participation) βρίσκεται, σε ένα βαθμό, εκτός της ορθόδοξης πολιτικής και μπορεί να στρέφεται ακόμη και εναντίον τ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BAE4-1523-4470-8091-233158CF7E1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φημισμένη ανάλυσή τους, οι Milbrath και Goel διαίρεσαν τους αμερικανούς πολίτες σε τρεις ομάδες, κατηγοριοποίηση που εφαρμόζεται έκτοτε για να περιγραφεί η συμμετοχή και στις άλλες φιλελεύθερες δημοκρατίες. Οι κατηγορίες αυτές, με κριτήριο τη συμμετοχή σε συμβατικές μορφές πολιτικής, είν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Οι ελάχιστοι μονομάχοι (αναλογούν περίπου στο 5-7% του πληθυσμού), που δίνουν την πολιτική μάχη - για παράδειγμα, τα ενεργά στελέχη των επιτελείων των υποψηφί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Μια μεγάλη ομάδα θεατών (περίπου το 60%), που παρακολουθούν μεν τη μάχη, σπανίως, όμως, συμμετέχουν σε αυτή, αν εξαιρέσει κανείς την προσέλευσή τους στις κάλπ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Ένας σημαντικός αριθμός απαθών (περίπου το 1/3), που δεν ασχολούνται καθόλου με την πολιτική.</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E487-7FA7-4256-AFBB-FE9E8A77F55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O πολιτικός αποκλεισμός (political exclusion) αναφέρεται στους ανθρώπους που ουσιαστικά αποκλείονται από τη συμμετοχή στη συλλογική λήψη των αποφάσεων, λόγω της περιθωριακής κοινωνικής τους θέσης. Πολλοί μετανάστες εργάτες, φυλακισμένοι, ναρκομανείς και όσοι δεν ομιλούν τη γλώσσα της χώρας στην οποία ζουν, αποτελούν σχετικά παραδείγματα ομάδ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AE5C-DE21-461E-9191-B8D3C26ECF8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οινωνικά κινήματα (social movements) είναι ομάδες που προέρχονται μέσα από την κοινωνία και σχηματίζονται με σκοπό την επιδίωξη αντισυμβατικών στόχων με ανορθόδοξα μέσα. Οι στόχοι τους είναι διευρυμένοι και δεν περιορίζονται σε ένα μόνο τομέα, και το ύφος τους, το οποίο αποδίδεται συχνά με τον όρο νέα πολιτική (new politics), συνίσταται στην αμφισβήτηση της υφιστάμενης ελίτ από άτομα που θεωρούνται παραδοσιακά κοινωνικά παρείσακτο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70F4-CF8E-4297-959C-091643177B2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ολιτική βία (political violence) συνίσταται σε βλαπτικές πράξεις κατά ατόμων ή περιουσίας, οι οποίες έχουν στόχο</a:t>
            </a:r>
            <a:r>
              <a:rPr b="0" lang="en-US" sz="1200" spc="-1" strike="noStrike">
                <a:solidFill>
                  <a:srgbClr val="000000"/>
                </a:solidFill>
                <a:latin typeface="Arial"/>
              </a:rPr>
              <a:t> </a:t>
            </a:r>
            <a:r>
              <a:rPr b="0" lang="el-GR" sz="1200" spc="-1" strike="noStrike">
                <a:solidFill>
                  <a:srgbClr val="000000"/>
                </a:solidFill>
                <a:latin typeface="Arial"/>
              </a:rPr>
              <a:t>την προαγωγή ή αποδοκιμασία κυβερνητικών αποφάσεων και κρατικών πολιτικών</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44AE3-6D5E-418F-AD5B-D67C278EBE6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ολιτική τρομοκρατία (political terror) αφορά τις ίδιες πράξεις, οι οποίες, όμως, αποσκοπούν στην πρόκληση αισθημάτων φόβου σε πληθυσμό ευρύτερο από τα άμεσα θύ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83C6-24E0-4F6E-87C6-0EF614D41A7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αποστολές αυτοκτονίας (suicide mission</a:t>
            </a:r>
            <a:r>
              <a:rPr b="0" lang="en-US" sz="1200" spc="-1" strike="noStrike">
                <a:solidFill>
                  <a:srgbClr val="000000"/>
                </a:solidFill>
                <a:latin typeface="Arial"/>
              </a:rPr>
              <a:t>s</a:t>
            </a:r>
            <a:r>
              <a:rPr b="0" lang="el-GR" sz="1200" spc="-1" strike="noStrike">
                <a:solidFill>
                  <a:srgbClr val="000000"/>
                </a:solidFill>
                <a:latin typeface="Arial"/>
              </a:rPr>
              <a:t>) αποτελούν ακραία μορφή βίαιης συμμετοχής, της οποίας η σημασία έχει αναβαθμιστεί στις αρχές του 21ου αιώνα, κυρίως στο Ιράκ και στο Αφγανιστάν, μετά την επανεμφάνισή τους στον πόλεμο του Λιβάνου το 1973-86. Η επιτυχία μιας αποστολής αυτοκτονίας θεωρείται ότι εξαρτάται από το θάνατο του προσώπου</a:t>
            </a:r>
            <a:r>
              <a:rPr b="0" lang="en-US" sz="1200" spc="-1" strike="noStrike">
                <a:solidFill>
                  <a:srgbClr val="000000"/>
                </a:solidFill>
                <a:latin typeface="Arial"/>
              </a:rPr>
              <a:t> </a:t>
            </a:r>
            <a:r>
              <a:rPr b="0" lang="el-GR" sz="1200" spc="-1" strike="noStrike">
                <a:solidFill>
                  <a:srgbClr val="000000"/>
                </a:solidFill>
                <a:latin typeface="Arial"/>
              </a:rPr>
              <a:t>που την εκτελεί.</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ενοκτονία (genocide) είναι η συστηματική και σκόπιμη εξόντωση μεγάλης μερίδας ενός λαού, έθνους, φυλής ή εθνικής ομάδα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Skocpol ορίζει τις επαναστάσεις (revolutions) ως ραγδαίες και θεμελιώδεις μεταμορφώσεις των κρατικών και ταξικών δομών μιας κοινωνίας. Οι μεταμορφώσεις αυτές συνοδεύονται και εν μέρει υλοποιούνται από ταξικές εξεγέρσεις που ξεκινούν από τη βάση. Κατά τον Goldstone, οι επαναστάσεις διαιρούνται σε τρία μερικώς επικαλυπτόμενα στάδια: τη διάλυση του κράτους, την επακόλουθη μάχη για την εξουσία και, τέλος, τη ριζοσπαστική ανοικοδόμηση του κράτους.</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D8B40-AD47-4055-B92C-7306C4071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48A0E-0231-4C7F-9152-A03A4D3E4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AE8B2-E4B9-4D85-A440-29945656F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8A998-99A7-4667-84C0-8BBA13BB0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79A5C4-3CB7-4ABC-B87F-1993F7A9E8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EF303-CC22-496D-A301-4D104588C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57A72-0845-4851-ACB0-A6C592702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ABF12-7EF4-4E39-83BE-9C57E716B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F91C0-D1DD-4E52-BB24-DDFB20A15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431EA-6FD6-4027-ACAD-D8BE440F4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6F3A1-3EC2-40C1-BA81-E22FEAD17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57C2E-E503-4C2C-89C6-AA08BAECC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45CB0-794D-46F6-85B0-B4DEC20E6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92B63-5E27-46DA-A665-F0D52AE85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EB2CF-1681-464D-AFB5-D1561C03A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653D2-CBFE-4D19-B038-39F69C33C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FDEC0-C9BF-46BE-BE3C-3CDA88F13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D3375-361D-460E-99D9-9F8239C96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9EEC9-B76D-4AFF-96AE-00DC06449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87CEE-C95C-4D46-A408-AE38A7B7A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26F1C-9A82-4F11-BA9F-F97A50A90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45845-00A3-4213-9D17-B66A5A66D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C28D8-427A-48E6-A0EE-952DA3C47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C4013-9C0D-4DAA-B358-9B1025830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B55F-B30E-4E60-8E23-0C45F5F77A45}"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A08F-A6AD-4A8A-9DD7-5D3B5B8DA43C}"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9</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λιτική συμμετοχ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συμμετοχή στην πολιτική βία</a:t>
            </a:r>
            <a:endParaRPr b="0" lang="en-US" sz="4200" spc="-1" strike="noStrike">
              <a:solidFill>
                <a:srgbClr val="66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χετική στέρηση (relative deprivation) προκύπτει όταν οι άνθρωποι πιστεύουν ότι εισπράττουν λιγότερα από αυτά που δικαιούνται. Αυτή η αίσθηση του τι δικαιούνται, μπορεί να βασίζεται σε σύγκριση με παλαιότερες εποχές, με κάποιο αφηρημένο πρότυπο δικαιοσύνης ή με τις επιβραβεύσεις που λαμβάνουν άλλες ομάδε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συμμετοχή στα απολυταρχικά κράτη</a:t>
            </a:r>
            <a:endParaRPr b="0" lang="en-US" sz="3800" spc="-1" strike="noStrike">
              <a:solidFill>
                <a:srgbClr val="66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λατειασμό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αζικά οργανωμένη συμμετοχ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συμμετοχή στις ανελεύθερες δημοκρατίες</a:t>
            </a:r>
            <a:endParaRPr b="0" lang="en-US" sz="3800" spc="-1" strike="noStrike">
              <a:solidFill>
                <a:srgbClr val="66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ποραδική και ανοργάνωτη συμμετοχή που βασίζεται στην πολιτική ανισότητ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δυναμία της κοινωνίας των πολιτώ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συμμετοχή στις ανελεύθερες δημοκρατίες</a:t>
            </a:r>
            <a:endParaRPr b="0" lang="en-US" sz="3800" spc="-1" strike="noStrike">
              <a:solidFill>
                <a:srgbClr val="66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ην κοινωνία των πολιτών (civil society) συγκροτούν οι ομάδες που βρίσκονται υπεράνω της προσωπικής οικογενειακής σφαίρας, είναι, όμως, υποδεέστερες από το κράτος. Ο όρος καλύπτει τους δημόσιους φορείς, όπως τα συνδικάτα, τις ομάδες συμφερόντων και, κατά μία έννοια, τις ομάδες ανθρώπων με κοινά ενδιαφέροντ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ρισμός</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ολιτική συμμετοχή (political participation) είναι η δραστηριότητα των ατόμων που έχει ως δεδηλωμένο σκοπό της να καθορίσει ποια πρόσωπα κυβερνούν και ποιες αποφάσεις λαμβάνουν αυτοί που έχουν την εξουσία.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ρισμός</a:t>
            </a:r>
            <a:endParaRPr b="0" lang="en-US" sz="42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υμβατική συμμετοχή (conventional participation) συναντάται στην τυπική πολιτική δραστηριότητα, ενώ η μη συμβατική συμμετοχή (unconventional participation) βρίσκεται, σε ένα βαθμό, εκτός της ορθόδοξης πολιτικής και μπορεί να στρέφεται ακόμη και εναντίον τ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συμμετοχή στις φιλελεύθερες δημοκρατίες</a:t>
            </a:r>
            <a:endParaRPr b="0" lang="en-US" sz="3800" spc="-1" strike="noStrike">
              <a:solidFill>
                <a:srgbClr val="660033"/>
              </a:solidFill>
              <a:latin typeface="Times New Roman"/>
            </a:endParaRPr>
          </a:p>
        </p:txBody>
      </p:sp>
      <p:sp>
        <p:nvSpPr>
          <p:cNvPr id="111" name="PlaceHolder 2"/>
          <p:cNvSpPr>
            <a:spLocks noGrp="1"/>
          </p:cNvSpPr>
          <p:nvPr>
            <p:ph/>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9.1:</a:t>
            </a:r>
            <a:r>
              <a:rPr b="0" lang="en-US" sz="2000" spc="-1" strike="noStrike">
                <a:solidFill>
                  <a:srgbClr val="000000"/>
                </a:solidFill>
                <a:latin typeface="Arial"/>
              </a:rPr>
              <a:t> </a:t>
            </a:r>
            <a:r>
              <a:rPr b="0" lang="el-GR" sz="2000" spc="-1" strike="noStrike">
                <a:solidFill>
                  <a:srgbClr val="000000"/>
                </a:solidFill>
                <a:latin typeface="Arial"/>
              </a:rPr>
              <a:t>Σχήματα συμμετοχής στις δημοκρατίες</a:t>
            </a:r>
            <a:endParaRPr b="0" lang="en-US" sz="2000" spc="-1" strike="noStrike">
              <a:solidFill>
                <a:srgbClr val="000000"/>
              </a:solidFill>
              <a:latin typeface="Arial"/>
            </a:endParaRPr>
          </a:p>
        </p:txBody>
      </p:sp>
      <p:pic>
        <p:nvPicPr>
          <p:cNvPr id="112" name="Picture 4" descr="C:\Users\EPIMELEIA\Dropbox\Kritiki-Book-Proofing\14-sigritiki-politiki-hague\images\Hag_Fig_09_01.png"/>
          <p:cNvPicPr/>
          <p:nvPr/>
        </p:nvPicPr>
        <p:blipFill>
          <a:blip r:embed="rId1"/>
          <a:stretch/>
        </p:blipFill>
        <p:spPr>
          <a:xfrm>
            <a:off x="2286000" y="2362320"/>
            <a:ext cx="4264200" cy="31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συμμετοχή στις φιλελεύθερες δημοκρατίες</a:t>
            </a:r>
            <a:endParaRPr b="0" lang="en-US" sz="3800" spc="-1" strike="noStrike">
              <a:solidFill>
                <a:srgbClr val="66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O πολιτικός αποκλεισμός (political exclusion) αναφέρεται στους ανθρώπους που ουσιαστικά αποκλείονται από τη συμμετοχή στη συλλογική λήψη των αποφάσεων, λόγω της περιθωριακής κοινωνικής τους θέση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ινωνικά κινήματα</a:t>
            </a:r>
            <a:endParaRPr b="0" lang="en-US" sz="4200" spc="-1" strike="noStrike">
              <a:solidFill>
                <a:srgbClr val="66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κοινωνικά κινήματα (social movements) είναι ομάδες που προέρχονται μέσα από την κοινωνία και σχηματίζονται με σκοπό την επιδίωξη αντισυμβατικών στόχων με ανορθόδοξα μέσα. Οι στόχοι τους είναι διευρυμένοι και δεν περιορίζονται σε ένα μόνο τομέα, και το ύφος τους, το οποίο αποδίδεται συχνά με τον όρο νέα πολιτική (new politics), συνίσταται στην αμφισβήτηση της υφιστάμενης ελίτ από άτομα που θεωρούνται παραδοσιακά κοινωνικά παρείσακτο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συμμετοχή στην πολιτική βία</a:t>
            </a:r>
            <a:endParaRPr b="0" lang="en-US" sz="4200" spc="-1" strike="noStrike">
              <a:solidFill>
                <a:srgbClr val="66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ολιτική βία (political violence) συνίσταται σε βλαπτικές πράξεις κατά ατόμων ή περιουσίας, οι οποίες έχουν στόχο</a:t>
            </a:r>
            <a:r>
              <a:rPr b="0" lang="en-US" sz="2800" spc="-1" strike="noStrike">
                <a:solidFill>
                  <a:srgbClr val="000000"/>
                </a:solidFill>
                <a:latin typeface="Arial"/>
              </a:rPr>
              <a:t> </a:t>
            </a:r>
            <a:r>
              <a:rPr b="0" lang="el-GR" sz="2800" spc="-1" strike="noStrike">
                <a:solidFill>
                  <a:srgbClr val="000000"/>
                </a:solidFill>
                <a:latin typeface="Arial"/>
              </a:rPr>
              <a:t>την προαγωγή ή αποδοκιμασία κυβερνητικών αποφάσεων και κρατικών πολιτικών</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LaPalombara, 197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συμμετοχή στην πολιτική βία</a:t>
            </a:r>
            <a:endParaRPr b="0" lang="en-US" sz="4200" spc="-1" strike="noStrike">
              <a:solidFill>
                <a:srgbClr val="66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ολιτική τρομοκρατία (political terror) αφορά τις ίδιες πράξεις, οι οποίες, όμως, αποσκοπούν στην πρόκληση αισθημάτων φόβου σε πληθυσμό ευρύτερο από τα άμεσα θύματ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συμμετοχή στην πολιτική βία</a:t>
            </a:r>
            <a:endParaRPr b="0" lang="en-US" sz="4200" spc="-1" strike="noStrike">
              <a:solidFill>
                <a:srgbClr val="66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ορφές πολιτικής βία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στολές αυτοκτονία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Γενοκτον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πανάστασ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7T05:51:07Z</dcterms:created>
  <dc:creator>pc</dc:creator>
  <dc:description/>
  <dc:language>en-US</dc:language>
  <cp:lastModifiedBy>EPIMELEIA</cp:lastModifiedBy>
  <dcterms:modified xsi:type="dcterms:W3CDTF">2013-09-23T09:23:41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